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70608"/>
        <c:axId val="87043085"/>
      </c:barChart>
      <c:catAx>
        <c:axId val="64270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43085"/>
        <c:crosses val="autoZero"/>
        <c:auto val="1"/>
        <c:lblAlgn val="ctr"/>
        <c:lblOffset val="100"/>
        <c:noMultiLvlLbl val="0"/>
      </c:catAx>
      <c:valAx>
        <c:axId val="87043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0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B09-4CCF-425D-A57A-7720B71C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840-A2E5-411F-8EB3-B358B212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E93-8156-4310-8B99-CB138AAC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BDD-D795-4270-8B68-87C0297A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792-256C-411E-9CE3-7E90E070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380-BDD7-4619-882B-F6003A48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14E-810E-47DB-AB10-0EDDC51F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F2E-FB98-4A64-ADD0-1F159B0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DB5-841F-4C56-A1F1-78719779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2CB-4527-49C2-BDA4-FF9D97E4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AA9-AB53-4738-AEE3-94F91EF2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607F-073B-4C42-9354-B04CF71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B6A8F-B0CA-48A3-A528-E86B5D9354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