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77745"/>
        <c:axId val="18092187"/>
      </c:barChart>
      <c:catAx>
        <c:axId val="91377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92187"/>
        <c:crosses val="autoZero"/>
        <c:auto val="1"/>
        <c:lblAlgn val="ctr"/>
        <c:lblOffset val="100"/>
        <c:noMultiLvlLbl val="0"/>
      </c:catAx>
      <c:valAx>
        <c:axId val="18092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7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0CF6-24E0-40DA-9030-6BA4CD2F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5A9-71BA-4988-8693-03697733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24E-DD24-46BF-A915-8E01D649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44D-224E-467D-9C03-263DFA17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0FF-BF7A-4532-A5CD-D9F28D0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867-7EE0-4807-87AE-240AE69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F7-7CAB-4D6D-8BEE-D77AFABD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581-9C5E-4F2C-85B7-0EFBA3C2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03A-C646-4D28-885C-6769C7BC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682-1DBB-4BA4-AE51-D1F2C30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843-B055-4766-82D9-1B4F5FA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FC7-2A1C-4A59-B50B-FD93117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2BBD-AA59-4D0C-A7CD-52DCEF47C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