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12051"/>
        <c:axId val="30596548"/>
      </c:barChart>
      <c:catAx>
        <c:axId val="64512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96548"/>
        <c:crosses val="autoZero"/>
        <c:auto val="1"/>
        <c:lblAlgn val="ctr"/>
        <c:lblOffset val="100"/>
        <c:noMultiLvlLbl val="0"/>
      </c:catAx>
      <c:valAx>
        <c:axId val="30596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12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A64-C516-4657-AF9B-1DD8070B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52E-B939-4881-9437-60EAF8F5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8EA-21BD-43C3-83E9-EAAB9D13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208-195C-414C-87E8-BADD613F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68F-CD44-4EB8-AB58-71F06D43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4C7-72AF-478A-82CA-18C35DB5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A0A-D56C-4E67-92C2-3A6C1FFF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B6A-B88B-48DD-9743-79CCA73E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343-2251-426F-A3D5-8A2A7834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C37-5EE9-4E3F-B565-9C311A38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1B5-B095-41BE-9763-1EA2AF78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504-3DB9-42EE-BA71-935D212D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93AEF-A20C-408C-8BFC-C5864F9B3F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