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7293"/>
        <c:axId val="7458947"/>
      </c:barChart>
      <c:catAx>
        <c:axId val="1827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947"/>
        <c:crosses val="autoZero"/>
        <c:auto val="1"/>
        <c:lblAlgn val="ctr"/>
        <c:lblOffset val="100"/>
        <c:noMultiLvlLbl val="0"/>
      </c:catAx>
      <c:valAx>
        <c:axId val="7458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7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067-C250-48C6-A702-45B527DD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F7B-2F1F-49A0-9A0E-336A4E29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AAC-69FA-4F42-A4B7-20C703BB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353-8519-4850-A00A-8509FECF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23F-3FCB-48B5-AD45-DC6DDF46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C67-DC5F-4F4A-90A5-5445A974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D49-D501-4825-8CC1-CC747D7C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69A-A83B-446E-A4A0-D4E2D8DD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E6B-7288-4D05-8832-747D9E8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E4B-BE51-435D-8AFF-F307691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451-D23D-41F1-9424-7FD3EAC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E21-0E9D-4BBF-9DAA-2504383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12AE2-3413-4BAE-A0C4-E7C2057C86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