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29521"/>
        <c:axId val="97619478"/>
      </c:barChart>
      <c:catAx>
        <c:axId val="299295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19478"/>
        <c:crosses val="autoZero"/>
        <c:auto val="1"/>
        <c:lblAlgn val="ctr"/>
        <c:lblOffset val="100"/>
        <c:noMultiLvlLbl val="0"/>
      </c:catAx>
      <c:valAx>
        <c:axId val="97619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295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D41A-7C1C-4AA4-B00E-8458C267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C696-B0FB-48DD-B27E-6791AD03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0700-EA18-4D40-A709-5CCC5C54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D4B-8EBE-47FF-9A5D-ABBDF172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BB1E-2A22-497D-95FF-5D276F5A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55B-597E-4584-8577-6D7E8056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A3E-97D0-40F9-9D09-6B474A1D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5B25-C3AD-41C3-9EDD-73527ABA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E01-DB04-492A-B30D-ADCB02FF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2CC-CEF2-4486-BB05-59AB7AFF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3B45-9F59-4931-AD3F-607DE4FB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69B-20A7-4DA9-8408-26DC0A32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12268-E80B-4777-9AA5-C450BCB635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